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C58C-10A9-48F6-AFE7-ADBB2882F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51BA-B723-4C2F-B538-0847350EC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7039-1B7C-494B-9CFA-E7D01C2ED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1F44-D736-4554-9FE1-A693225D1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567B1-D26B-4051-9413-F8AA537B3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6DDDC-14D6-47A7-9A73-F76F054DE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2490D-C665-4973-A6C9-E48BDC0BB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0F294-FB31-4B52-8C96-CD75AD7A4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1D7E2-3E1D-4DA4-B7A6-8BF1A370D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EB4A9-2E8F-4686-B585-74D75A3CE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4AEC6-C10C-4047-B82E-6275D04CD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57F9-C282-4583-806B-307551B0D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E3B62-DDBF-4AE1-919A-FE6F42DBB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B0C9E-0A6E-45A2-B37B-A667FE1AA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E81BA-77DB-4E3E-B4E9-C32675D44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40921-4683-4343-85E4-98B0F3EFA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E5DEC-2387-4AA6-86EE-FD8F28851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7881EA-14AC-4FF0-93A2-7644D1B1F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2E3898-1E54-4C4F-A414-566EE5909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A0BCAE-4CB4-4F96-9B78-40F342803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1DF5BA-865A-4DB4-A8B5-BCA183A65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E00173-C4D3-4D96-9933-D54D6C6A0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BAF7-FD62-4E32-B749-077771AB4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932F87-E19B-4E05-A188-97FB23CC1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DA88F0-A6F0-4534-8D2A-A298FDED6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85D252-BC29-4F9D-B78F-3CC180A25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0FDA37-2460-41F2-AB46-436A091AD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B4A315-F919-4E07-A966-9CFAE5CF8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ED45FB-58B2-471A-9915-EC454630F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E587C9-6CEE-4388-9A8B-981A825D7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33F97A-AB51-409F-954A-F274E2679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C9B510-31FA-4765-9765-62BFBE59A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31AE92-40E1-451F-95A5-166AC38D5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602E-431B-42D7-95AD-CD830295C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8AADB0-C0BA-4126-8408-2BA136875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9425B5-11D4-4D5C-B068-B9DA266C0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83BC15-79EB-410D-ADB6-C8E9DAB82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714C50-4A5D-486A-B1BC-A7446D318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BF8D7F-59A6-4392-97D6-C78C0D7AD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8D5E94-2EE4-4F19-9C2D-EC4F6B3D2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7B9B1C-330B-4342-BBA1-8947CCCC6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9A2C70-394D-4733-B79E-E2B141317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8BF9B4-B05E-4CC4-B133-6298D44CE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3F294F-7959-48DE-983A-09A6D63BB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EB96-7941-47E9-AA84-F95EF4834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1B1D59-5684-4291-8427-278BF2B5D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18BBFD-028C-4143-A212-568875D45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41A2F6-7D90-465A-89A1-15B7C5859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A6B9E1-44DB-4B13-B723-2B6787649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864300-39CE-4DE5-A16C-2C1CFA2E1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49EBE6-A9F0-43C2-AD4B-ADFE6D26D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8C3DC5-A120-437B-BAD8-9C6C4777E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0B28ED-8D4C-49F1-A77E-75ED0BBD4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20655F-5255-40DF-A7D1-80339078E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C89277-3EEC-4311-88AF-B006AD6B7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E517-4BA1-468A-B1B4-83613E593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542FCA-4D06-4C11-9490-22F032769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790613-9F98-460A-B7CE-4945644FA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C24488-88E7-448C-A398-C5F6D87D4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F8C234-F96C-49E0-8C37-273D6CB03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4691B8-2181-4B94-AA57-6AA5CB79B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FD2F53-B556-4250-8137-1C24CE531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50E441-AD47-49C0-91CC-143951F98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FCAA11-ADF3-4609-ABFE-1773CCBA4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7A5582-120A-427A-8E60-3F003A32C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236158-CFDB-493F-A0FE-1E4D01107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4F6C-AB7A-4A7D-A96E-94E3382CF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34E7BA-E608-419F-89E6-150EF8308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657B97-8039-4EC1-8E6C-5A07E8D19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9CEB46-6D70-4C44-8848-7BDB0FF5C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C0672E-7A9C-4D21-93AF-B409B9F73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286429-EDAB-44A9-8B0E-AA9E2F8C7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324738-5D52-4BAA-A1AB-E27365717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431A5C-7EF2-496B-9412-36B280EBF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8467CE-13ED-43A9-AF93-9C100C60D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81F724-841D-4604-8AD1-D9508550E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623DE4-16DC-44F3-906E-BB8E729E2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FDEC-C28A-43A0-BFF1-5A442D78A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46ABA5-4223-4772-A41F-72DEDD753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D993AE-5E40-4D0B-AEA7-9716A2BE8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976E89-881D-4C14-9694-CFB0E523B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176A24-815D-45F8-A257-355590CD4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153907-374F-422A-9C5C-6447805FD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83A1AB-549A-48AB-BAAD-EB6545776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04175C-3714-4439-91A0-11AA65DDD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454575-BB1E-4E39-A9A0-4223F1E97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137EB5-41F3-479E-BB49-137CF6824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56D291-2395-4CE3-8011-4EABDF177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0131-3FDB-4B1E-A713-ECFCBDB48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AC1D27-9830-483C-A867-D9C78EA02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118AE3-BC8B-4DAE-915E-A1201EE9A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E0D4F7-153E-4816-890A-FF260DFD8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1C1E6D-67B3-44A4-812F-7F078ED8F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7A48EC-40EE-44DF-8A07-3515EBB33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ABB5C8-1559-48C2-9BEB-6A2FD4C30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4E90CD-141E-47D9-AED4-939984BA3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tângulo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tângulo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tângulo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B8686-BF6A-479D-8F84-41FB7504CDB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tângulo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tângulo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tângulo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6C419-F577-4BBB-AE8D-B218F667024A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tângulo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tângulo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tângulo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C3A06-99E7-4C6C-9CBB-669483E02195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tângulo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tângulo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tângulo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CB601-7C43-4A99-B40A-24E896E52EE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tângulo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tângulo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tângulo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D9E7A-D9B2-427D-9D72-BFC866084F1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C1200-F3CC-4E3F-83C8-038C5D57D681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tângulo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tângulo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tângulo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tângulo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77929-6007-405C-986D-1E2205397416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tângulo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tângulo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tângulo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75613-F46C-4B22-85E5-1B223A70201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371600" y="4800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bddc3"/>
                </a:solidFill>
                <a:latin typeface="Tw Cen MT"/>
              </a:rPr>
              <a:t>RECUPERAÇÃO APÓS FALHA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775f55"/>
                </a:solidFill>
                <a:latin typeface="Tw Cen MT"/>
              </a:rPr>
              <a:t>Como recuperar o BD?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6858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Tw Cen MT"/>
              </a:rPr>
              <a:t>Falha de transaçã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w Cen MT"/>
              </a:rPr>
              <a:t>Desfazer as operações já realizadas pela transação até o início da transação ou até um determinado ponto dentro da transação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Tw Cen MT"/>
              </a:rPr>
              <a:t>Falha do sistem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w Cen MT"/>
              </a:rPr>
              <a:t>Recuperar o mais recente estado consistente do BD que existia antes da falh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w Cen MT"/>
              </a:rPr>
              <a:t>Refazer ou desfazer transaçõe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Tw Cen MT"/>
              </a:rPr>
              <a:t>Falha de disc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w Cen MT"/>
              </a:rPr>
              <a:t>Refazer o BD utilizando um BD espelho ou uma cópia de seguranç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775f55"/>
                </a:solidFill>
                <a:latin typeface="Tw Cen MT"/>
              </a:rPr>
              <a:t>Arquitetura do Gerenciador de Recuperação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6840" y="4571640"/>
            <a:ext cx="8497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w Cen MT"/>
              </a:rPr>
              <a:t>Log</a:t>
            </a:r>
            <a:r>
              <a:rPr b="0" lang="pt-BR" sz="2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2800" spc="-1" strike="noStrike">
                <a:solidFill>
                  <a:srgbClr val="000000"/>
                </a:solidFill>
                <a:latin typeface="Tw Cen MT"/>
              </a:rPr>
              <a:t> recuperação de curta duração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w Cen MT"/>
              </a:rPr>
              <a:t>Falha de transação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w Cen MT"/>
              </a:rPr>
              <a:t>Recuperação de média e longa duração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w Cen MT"/>
              </a:rPr>
              <a:t>Falha de sistema (</a:t>
            </a:r>
            <a:r>
              <a:rPr b="1" lang="pt-BR" sz="2400" spc="-1" strike="noStrike">
                <a:solidFill>
                  <a:srgbClr val="000000"/>
                </a:solidFill>
                <a:latin typeface="Tw Cen MT"/>
              </a:rPr>
              <a:t>BD + Log</a:t>
            </a:r>
            <a:r>
              <a:rPr b="0" lang="pt-BR" sz="2400" spc="-1" strike="noStrike">
                <a:solidFill>
                  <a:srgbClr val="000000"/>
                </a:solidFill>
                <a:latin typeface="Tw Cen M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w Cen MT"/>
              </a:rPr>
              <a:t>Falha de disco (</a:t>
            </a:r>
            <a:r>
              <a:rPr b="1" lang="pt-BR" sz="2400" spc="-1" strike="noStrike">
                <a:solidFill>
                  <a:srgbClr val="000000"/>
                </a:solidFill>
                <a:latin typeface="Tw Cen MT"/>
              </a:rPr>
              <a:t>Cópia de segurança + Log</a:t>
            </a:r>
            <a:r>
              <a:rPr b="0" lang="pt-BR" sz="2400" spc="-1" strike="noStrike">
                <a:solidFill>
                  <a:srgbClr val="000000"/>
                </a:solidFill>
                <a:latin typeface="Tw Cen M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749160" y="2438280"/>
            <a:ext cx="24386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58bb8"/>
                </a:solidFill>
                <a:latin typeface="Tahoma"/>
              </a:rPr>
              <a:t>Escalon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AutoShape 5"/>
          <p:cNvSpPr/>
          <p:nvPr/>
        </p:nvSpPr>
        <p:spPr>
          <a:xfrm>
            <a:off x="1130400" y="3429000"/>
            <a:ext cx="1828800" cy="91440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58bb8"/>
                </a:solidFill>
                <a:latin typeface="Tahoma"/>
              </a:rPr>
              <a:t>B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AutoShape 6"/>
          <p:cNvSpPr/>
          <p:nvPr/>
        </p:nvSpPr>
        <p:spPr>
          <a:xfrm>
            <a:off x="4178160" y="2133720"/>
            <a:ext cx="221004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58bb8"/>
                </a:solidFill>
                <a:latin typeface="Tahoma"/>
              </a:rPr>
              <a:t>Gerenciador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58bb8"/>
                </a:solidFill>
                <a:latin typeface="Tahoma"/>
              </a:rPr>
              <a:t>Recuper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AutoShape 7"/>
          <p:cNvSpPr/>
          <p:nvPr/>
        </p:nvSpPr>
        <p:spPr>
          <a:xfrm>
            <a:off x="3797280" y="3733920"/>
            <a:ext cx="609480" cy="609480"/>
          </a:xfrm>
          <a:prstGeom prst="flowChartMagneticTap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AutoShape 8"/>
          <p:cNvSpPr/>
          <p:nvPr/>
        </p:nvSpPr>
        <p:spPr>
          <a:xfrm>
            <a:off x="6616800" y="3657600"/>
            <a:ext cx="609480" cy="609480"/>
          </a:xfrm>
          <a:prstGeom prst="flowChartMagneticTap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10"/>
          <p:cNvSpPr/>
          <p:nvPr/>
        </p:nvSpPr>
        <p:spPr>
          <a:xfrm>
            <a:off x="1587600" y="1600200"/>
            <a:ext cx="3808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Line 11"/>
          <p:cNvSpPr/>
          <p:nvPr/>
        </p:nvSpPr>
        <p:spPr>
          <a:xfrm>
            <a:off x="196848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12"/>
          <p:cNvSpPr/>
          <p:nvPr/>
        </p:nvSpPr>
        <p:spPr>
          <a:xfrm flipH="1">
            <a:off x="1968120" y="1523880"/>
            <a:ext cx="7621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13"/>
          <p:cNvSpPr/>
          <p:nvPr/>
        </p:nvSpPr>
        <p:spPr>
          <a:xfrm>
            <a:off x="184680" y="1822320"/>
            <a:ext cx="153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558bb8"/>
                </a:solidFill>
                <a:latin typeface="Tahoma"/>
              </a:rPr>
              <a:t>Transaçõ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Line 14"/>
          <p:cNvSpPr/>
          <p:nvPr/>
        </p:nvSpPr>
        <p:spPr>
          <a:xfrm>
            <a:off x="1968480" y="2971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Line 15"/>
          <p:cNvSpPr/>
          <p:nvPr/>
        </p:nvSpPr>
        <p:spPr>
          <a:xfrm>
            <a:off x="3187800" y="2743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Line 17"/>
          <p:cNvSpPr/>
          <p:nvPr/>
        </p:nvSpPr>
        <p:spPr>
          <a:xfrm flipH="1">
            <a:off x="4254480" y="304812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Line 18"/>
          <p:cNvSpPr/>
          <p:nvPr/>
        </p:nvSpPr>
        <p:spPr>
          <a:xfrm>
            <a:off x="5245200" y="30481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19"/>
          <p:cNvSpPr/>
          <p:nvPr/>
        </p:nvSpPr>
        <p:spPr>
          <a:xfrm>
            <a:off x="4505040" y="3657600"/>
            <a:ext cx="167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58bb8"/>
                </a:solidFill>
                <a:latin typeface="Tahoma"/>
              </a:rPr>
              <a:t>Cópia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58bb8"/>
                </a:solidFill>
                <a:latin typeface="Tahoma"/>
              </a:rPr>
              <a:t>seguranç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20"/>
          <p:cNvSpPr/>
          <p:nvPr/>
        </p:nvSpPr>
        <p:spPr>
          <a:xfrm>
            <a:off x="7302600" y="3800520"/>
            <a:ext cx="77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58bb8"/>
                </a:solidFill>
                <a:latin typeface="Tahoma"/>
              </a:rPr>
              <a:t>L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775f55"/>
                </a:solidFill>
                <a:latin typeface="Tw Cen MT"/>
              </a:rPr>
              <a:t>Recuperação usando Lo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609480" y="16002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Tw Cen MT"/>
              </a:rPr>
              <a:t>Arquivo onde ficam armazenadas todas as operações realizadas no B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w Cen MT"/>
              </a:rPr>
              <a:t>Cada vez que é executada uma operação sobre uma linha de uma tabela é criado uma entrada (ou registro) no Log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Tw Cen MT"/>
              </a:rPr>
              <a:t>Exemplos de registros no Log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w Cen MT"/>
              </a:rPr>
              <a:t>[begin_Transaction, T]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w Cen MT"/>
              </a:rPr>
              <a:t>[write, T, X, old, new]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w Cen MT"/>
              </a:rPr>
              <a:t>[read, T, X]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w Cen MT"/>
              </a:rPr>
              <a:t>[commit, T]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w Cen MT"/>
              </a:rPr>
              <a:t>[abort, T]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775f55"/>
                </a:solidFill>
                <a:latin typeface="Tw Cen MT"/>
              </a:rPr>
              <a:t>Log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228600" y="1676160"/>
            <a:ext cx="8726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w Cen MT"/>
              </a:rPr>
              <a:t>Armazenado na memória principal, em meio não-volátil e em meio estáve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w Cen MT"/>
              </a:rPr>
              <a:t>É um arquivo serial que guarda todas as modificações que foram realizadas no BD e quais transações realizaram quais modificações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w Cen MT"/>
              </a:rPr>
              <a:t>Este arquivo é lido durante o processo de recuperação pois pode levar um BD ao seu último estado consistente antes da falh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w Cen MT"/>
              </a:rPr>
              <a:t>U</a:t>
            </a:r>
            <a:r>
              <a:rPr b="0" lang="pt-PT" sz="2400" spc="-1" strike="noStrike">
                <a:solidFill>
                  <a:srgbClr val="000000"/>
                </a:solidFill>
                <a:latin typeface="Tw Cen MT"/>
              </a:rPr>
              <a:t>ma transação só é considerada executada quando todos os registros </a:t>
            </a:r>
            <a:r>
              <a:rPr b="0" lang="pt-BR" sz="2400" spc="-1" strike="noStrike">
                <a:solidFill>
                  <a:srgbClr val="000000"/>
                </a:solidFill>
                <a:latin typeface="Tw Cen MT"/>
              </a:rPr>
              <a:t>do </a:t>
            </a:r>
            <a:r>
              <a:rPr b="0" lang="pt-PT" sz="2400" spc="-1" strike="noStrike">
                <a:solidFill>
                  <a:srgbClr val="000000"/>
                </a:solidFill>
                <a:latin typeface="Tw Cen MT"/>
              </a:rPr>
              <a:t>Log desta</a:t>
            </a:r>
            <a:r>
              <a:rPr b="0" lang="pt-BR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Tw Cen MT"/>
              </a:rPr>
              <a:t>transação estiverem </a:t>
            </a:r>
            <a:r>
              <a:rPr b="0" lang="pt-BR" sz="2400" spc="-1" strike="noStrike">
                <a:solidFill>
                  <a:srgbClr val="000000"/>
                </a:solidFill>
                <a:latin typeface="Tw Cen MT"/>
              </a:rPr>
              <a:t>armazenadas no banco de dados físico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w Cen MT"/>
              </a:rPr>
              <a:t>R</a:t>
            </a:r>
            <a:r>
              <a:rPr b="0" lang="pt-PT" sz="2400" spc="-1" strike="noStrike">
                <a:solidFill>
                  <a:srgbClr val="000000"/>
                </a:solidFill>
                <a:latin typeface="Tw Cen MT"/>
              </a:rPr>
              <a:t>egistros do L</a:t>
            </a:r>
            <a:r>
              <a:rPr b="0" lang="pt-BR" sz="2400" spc="-1" strike="noStrike">
                <a:solidFill>
                  <a:srgbClr val="000000"/>
                </a:solidFill>
                <a:latin typeface="Tw Cen MT"/>
              </a:rPr>
              <a:t>og</a:t>
            </a:r>
            <a:r>
              <a:rPr b="0" lang="pt-PT" sz="2400" spc="-1" strike="noStrike">
                <a:solidFill>
                  <a:srgbClr val="000000"/>
                </a:solidFill>
                <a:latin typeface="Tw Cen MT"/>
              </a:rPr>
              <a:t> devem ser armazenados no arquivo na ordem em que eles foram</a:t>
            </a:r>
            <a:r>
              <a:rPr b="0" lang="pt-BR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Tw Cen MT"/>
              </a:rPr>
              <a:t>criados (exemplo: antes que o registro &lt;</a:t>
            </a:r>
            <a:r>
              <a:rPr b="0" lang="pt-BR" sz="2400" spc="-1" strike="noStrike">
                <a:solidFill>
                  <a:srgbClr val="000000"/>
                </a:solidFill>
                <a:latin typeface="Tw Cen MT"/>
              </a:rPr>
              <a:t>commit,</a:t>
            </a:r>
            <a:r>
              <a:rPr b="0" lang="pt-PT" sz="2400" spc="-1" strike="noStrike">
                <a:solidFill>
                  <a:srgbClr val="000000"/>
                </a:solidFill>
                <a:latin typeface="Tw Cen MT"/>
              </a:rPr>
              <a:t> Ti&gt; seja armazenado no arquivo, todos os</a:t>
            </a:r>
            <a:r>
              <a:rPr b="0" lang="pt-BR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Tw Cen MT"/>
              </a:rPr>
              <a:t>outros registros desta transação já devem estar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775f55"/>
                </a:solidFill>
                <a:latin typeface="Tw Cen MT"/>
              </a:rPr>
              <a:t>Recuperação de Falha de Transação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609480" y="16765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Tw Cen MT"/>
              </a:rPr>
              <a:t>Deve ser executada pelo SGBD quando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w Cen MT"/>
              </a:rPr>
              <a:t>uma transação que estava sendo executada  é cancelada (explícita/implícitamente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Tw Cen MT"/>
              </a:rPr>
              <a:t>Recuperaçã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w Cen MT"/>
              </a:rPr>
              <a:t>Os efeitos da transação em questão devem ser desfeito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w Cen MT"/>
              </a:rPr>
              <a:t>Para isso, deve-se varrer o arquivo de Log para identificar as operações já realizadas pela transação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775f55"/>
                </a:solidFill>
                <a:latin typeface="Tw Cen MT"/>
              </a:rPr>
              <a:t>Recuperação de Falha do Sistema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Tw Cen MT"/>
              </a:rPr>
              <a:t>O SGBD parou de executar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Tw Cen MT"/>
              </a:rPr>
              <a:t>Operações que estavam na memória volátil não foram armazenadas na memória físic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Tw Cen MT"/>
              </a:rPr>
              <a:t>Consequentement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w Cen MT"/>
              </a:rPr>
              <a:t>Todas as transações que estavam em execução no momento da falha devem ser desfeita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Tw Cen MT"/>
              </a:rPr>
              <a:t>Questão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w Cen MT"/>
              </a:rPr>
              <a:t>Como o SGBD sabe as transações que estavam em execução? Deverá varrer todo o Log?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775f55"/>
                </a:solidFill>
                <a:latin typeface="Tw Cen MT"/>
              </a:rPr>
              <a:t>Checkpoint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609480" y="15235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w Cen MT"/>
              </a:rPr>
              <a:t>Ponto de controle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w Cen MT"/>
              </a:rPr>
              <a:t>De tempos em tempos, o SGBD escreve no </a:t>
            </a:r>
            <a:r>
              <a:rPr b="0" lang="pt-BR" sz="2800" spc="-1" strike="noStrike">
                <a:solidFill>
                  <a:srgbClr val="000000"/>
                </a:solidFill>
                <a:latin typeface="Tw Cen MT"/>
              </a:rPr>
              <a:t>L</a:t>
            </a:r>
            <a:r>
              <a:rPr b="0" lang="pt-PT" sz="2800" spc="-1" strike="noStrike">
                <a:solidFill>
                  <a:srgbClr val="000000"/>
                </a:solidFill>
                <a:latin typeface="Tw Cen MT"/>
              </a:rPr>
              <a:t>og um</a:t>
            </a:r>
            <a:r>
              <a:rPr b="0" lang="pt-BR" sz="2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pt-PT" sz="2800" spc="-1" strike="noStrike">
                <a:solidFill>
                  <a:srgbClr val="000000"/>
                </a:solidFill>
                <a:latin typeface="Tw Cen MT"/>
              </a:rPr>
              <a:t>registro especial chamado </a:t>
            </a:r>
            <a:r>
              <a:rPr b="0" i="1" lang="pt-PT" sz="2800" spc="-1" strike="noStrike">
                <a:solidFill>
                  <a:srgbClr val="000000"/>
                </a:solidFill>
                <a:latin typeface="Tw Cen MT"/>
              </a:rPr>
              <a:t>checkpoint</a:t>
            </a:r>
            <a:r>
              <a:rPr b="0" lang="pt-PT" sz="2800" spc="-1" strike="noStrike">
                <a:solidFill>
                  <a:srgbClr val="000000"/>
                </a:solidFill>
                <a:latin typeface="Tw Cen MT"/>
              </a:rPr>
              <a:t>, que serve para registrar</a:t>
            </a:r>
            <a:r>
              <a:rPr b="0" lang="pt-BR" sz="2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pt-PT" sz="2800" spc="-1" strike="noStrike">
                <a:solidFill>
                  <a:srgbClr val="000000"/>
                </a:solidFill>
                <a:latin typeface="Tw Cen MT"/>
              </a:rPr>
              <a:t>as transações em execução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w Cen MT"/>
              </a:rPr>
              <a:t>A execução de um checkpoint envolve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13800" indent="-26172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w Cen MT"/>
              </a:rPr>
              <a:t>Gravar fisicamente o conteúdo do BD da memória volátil no BD físico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13800" indent="-26172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w Cen MT"/>
              </a:rPr>
              <a:t>Gravar fisicamente (meio estável) o conteúdo do Log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13800" indent="-26172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w Cen MT"/>
              </a:rPr>
              <a:t>Gravar</a:t>
            </a:r>
            <a:r>
              <a:rPr b="0" lang="pt-PT" sz="2400" spc="-1" strike="noStrike">
                <a:solidFill>
                  <a:srgbClr val="000000"/>
                </a:solidFill>
                <a:latin typeface="Tw Cen MT"/>
              </a:rPr>
              <a:t> um registro de checkpoint no </a:t>
            </a:r>
            <a:r>
              <a:rPr b="0" lang="pt-BR" sz="2400" spc="-1" strike="noStrike">
                <a:solidFill>
                  <a:srgbClr val="000000"/>
                </a:solidFill>
                <a:latin typeface="Tw Cen MT"/>
              </a:rPr>
              <a:t>L</a:t>
            </a:r>
            <a:r>
              <a:rPr b="0" lang="pt-PT" sz="2400" spc="-1" strike="noStrike">
                <a:solidFill>
                  <a:srgbClr val="000000"/>
                </a:solidFill>
                <a:latin typeface="Tw Cen MT"/>
              </a:rPr>
              <a:t>og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w Cen MT"/>
              </a:rPr>
              <a:t>Se não existe este registro, teríamos que investigar todo o arquivo de Log para recuperar o BD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775f55"/>
                </a:solidFill>
                <a:latin typeface="Tw Cen MT"/>
              </a:rPr>
              <a:t>Checkpoin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Tw Cen MT"/>
              </a:rPr>
              <a:t>Quando ocorre uma falha de sistem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w Cen MT"/>
              </a:rPr>
              <a:t>Todas as transações cujos registros &lt;commit, Ti&gt; estejam depois do checkpoint mais recente gravado no Log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w Cen MT"/>
              </a:rPr>
              <a:t>Devem ser refeitas (REDO)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w Cen MT"/>
              </a:rPr>
              <a:t>Todas as transações cujos registros &lt;begin transaction, Ti&gt; estejam no Log mas os registros &lt;commit, Ti&gt; ou &lt;rollback, Ti&gt; não estejam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w Cen MT"/>
              </a:rPr>
              <a:t>Devem ser desfeitas (UNDO)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3"/>
          <p:cNvSpPr/>
          <p:nvPr/>
        </p:nvSpPr>
        <p:spPr>
          <a:xfrm>
            <a:off x="1285920" y="838080"/>
            <a:ext cx="7467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600"/>
                </a:solidFill>
                <a:latin typeface="Tahoma"/>
              </a:rPr>
              <a:t>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4"/>
          <p:cNvSpPr/>
          <p:nvPr/>
        </p:nvSpPr>
        <p:spPr>
          <a:xfrm>
            <a:off x="1285920" y="1295280"/>
            <a:ext cx="7467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775f55"/>
                </a:solidFill>
                <a:latin typeface="Tahoma"/>
              </a:rPr>
              <a:t>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1285920" y="1752480"/>
            <a:ext cx="7467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600"/>
                </a:solidFill>
                <a:latin typeface="Tahoma"/>
              </a:rPr>
              <a:t>T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Rectangle 6"/>
          <p:cNvSpPr/>
          <p:nvPr/>
        </p:nvSpPr>
        <p:spPr>
          <a:xfrm>
            <a:off x="1285920" y="2209680"/>
            <a:ext cx="7467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775f55"/>
                </a:solidFill>
                <a:latin typeface="Tahoma"/>
              </a:rPr>
              <a:t>T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7"/>
          <p:cNvSpPr/>
          <p:nvPr/>
        </p:nvSpPr>
        <p:spPr>
          <a:xfrm>
            <a:off x="1285920" y="2666880"/>
            <a:ext cx="7467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600"/>
                </a:solidFill>
                <a:latin typeface="Tahoma"/>
              </a:rPr>
              <a:t>T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Line 8"/>
          <p:cNvSpPr/>
          <p:nvPr/>
        </p:nvSpPr>
        <p:spPr>
          <a:xfrm>
            <a:off x="3886200" y="609480"/>
            <a:ext cx="0" cy="2590920"/>
          </a:xfrm>
          <a:prstGeom prst="line">
            <a:avLst/>
          </a:prstGeom>
          <a:ln w="936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Line 9"/>
          <p:cNvSpPr/>
          <p:nvPr/>
        </p:nvSpPr>
        <p:spPr>
          <a:xfrm>
            <a:off x="7839000" y="609480"/>
            <a:ext cx="9720" cy="2590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Line 10"/>
          <p:cNvSpPr/>
          <p:nvPr/>
        </p:nvSpPr>
        <p:spPr>
          <a:xfrm>
            <a:off x="1971720" y="1143000"/>
            <a:ext cx="1676520" cy="0"/>
          </a:xfrm>
          <a:prstGeom prst="line">
            <a:avLst/>
          </a:prstGeom>
          <a:ln w="28440">
            <a:solidFill>
              <a:srgbClr val="0066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Line 11"/>
          <p:cNvSpPr/>
          <p:nvPr/>
        </p:nvSpPr>
        <p:spPr>
          <a:xfrm>
            <a:off x="2581200" y="1600200"/>
            <a:ext cx="2286000" cy="0"/>
          </a:xfrm>
          <a:prstGeom prst="line">
            <a:avLst/>
          </a:prstGeom>
          <a:ln w="28440">
            <a:solidFill>
              <a:srgbClr val="775f55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Line 12"/>
          <p:cNvSpPr/>
          <p:nvPr/>
        </p:nvSpPr>
        <p:spPr>
          <a:xfrm>
            <a:off x="3495600" y="1981080"/>
            <a:ext cx="4343400" cy="0"/>
          </a:xfrm>
          <a:prstGeom prst="line">
            <a:avLst/>
          </a:prstGeom>
          <a:ln w="28440">
            <a:solidFill>
              <a:srgbClr val="0066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Line 13"/>
          <p:cNvSpPr/>
          <p:nvPr/>
        </p:nvSpPr>
        <p:spPr>
          <a:xfrm>
            <a:off x="4105440" y="2438280"/>
            <a:ext cx="1447560" cy="0"/>
          </a:xfrm>
          <a:prstGeom prst="line">
            <a:avLst/>
          </a:prstGeom>
          <a:ln w="28440">
            <a:solidFill>
              <a:srgbClr val="775f55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Line 14"/>
          <p:cNvSpPr/>
          <p:nvPr/>
        </p:nvSpPr>
        <p:spPr>
          <a:xfrm>
            <a:off x="4714920" y="2895480"/>
            <a:ext cx="3124080" cy="0"/>
          </a:xfrm>
          <a:prstGeom prst="line">
            <a:avLst/>
          </a:prstGeom>
          <a:ln w="28440">
            <a:solidFill>
              <a:srgbClr val="0066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15"/>
          <p:cNvSpPr/>
          <p:nvPr/>
        </p:nvSpPr>
        <p:spPr>
          <a:xfrm>
            <a:off x="2908080" y="152280"/>
            <a:ext cx="179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dd8047"/>
                </a:solidFill>
                <a:latin typeface="Tahoma"/>
              </a:rPr>
              <a:t>Check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Text Box 16"/>
          <p:cNvSpPr/>
          <p:nvPr/>
        </p:nvSpPr>
        <p:spPr>
          <a:xfrm>
            <a:off x="6254280" y="152280"/>
            <a:ext cx="25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Tahoma"/>
              </a:rPr>
              <a:t>Falha do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Line 17"/>
          <p:cNvSpPr/>
          <p:nvPr/>
        </p:nvSpPr>
        <p:spPr>
          <a:xfrm>
            <a:off x="914400" y="60948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18"/>
          <p:cNvSpPr/>
          <p:nvPr/>
        </p:nvSpPr>
        <p:spPr>
          <a:xfrm>
            <a:off x="683640" y="152280"/>
            <a:ext cx="11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T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152280" y="3200400"/>
            <a:ext cx="87631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w Cen MT"/>
              </a:rPr>
              <a:t>Quando ocorre uma falha, o SGBD verifica o último checkpoint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w Cen MT"/>
              </a:rPr>
              <a:t>A recuperação de cada uma das transações ocorre das seguintes maneira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w Cen MT"/>
              </a:rPr>
              <a:t>T1 não é afetad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w Cen MT"/>
              </a:rPr>
              <a:t>T2 e T4 já estão completadas mas não conseguiram ter suas atualizações gravadas no BD físico </a:t>
            </a:r>
            <a:r>
              <a:rPr b="0" lang="pt-B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2400" spc="-1" strike="noStrike">
                <a:solidFill>
                  <a:srgbClr val="000000"/>
                </a:solidFill>
                <a:latin typeface="Tw Cen MT"/>
              </a:rPr>
              <a:t> Refazê-la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w Cen MT"/>
              </a:rPr>
              <a:t>T3 e T5 ainda não tinham sido encerradas </a:t>
            </a:r>
            <a:r>
              <a:rPr b="0" lang="pt-B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2400" spc="-1" strike="noStrike">
                <a:solidFill>
                  <a:srgbClr val="000000"/>
                </a:solidFill>
                <a:latin typeface="Tw Cen MT"/>
              </a:rPr>
              <a:t> Desfazê-la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055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775f55"/>
                </a:solidFill>
                <a:latin typeface="Tw Cen MT"/>
              </a:rPr>
              <a:t>Recuperação de Falha de Disco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Tw Cen MT"/>
              </a:rPr>
              <a:t>O BD está danificado!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Tw Cen MT"/>
              </a:rPr>
              <a:t>Uma falha deste tipo ocorre raramente, mas deve ser previst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Tw Cen MT"/>
              </a:rPr>
              <a:t>Necessita de uma cópia de segurança (backup) atualizada periodicament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Tw Cen MT"/>
              </a:rPr>
              <a:t>O BD deve ser restaurado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w Cen MT"/>
              </a:rPr>
              <a:t>pela carga da cópia de segurança e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w Cen MT"/>
              </a:rPr>
              <a:t>pelo uso do Log para refazer todas as operações feitas após a cópi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Tw Cen MT"/>
              </a:rPr>
              <a:t>Material baseado nas aulas da prof. Renata Vilas Boas 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rebuchet MS"/>
              </a:rPr>
              <a:t>Motivação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rebuchet MS"/>
              </a:rPr>
              <a:t>Conceitos Básico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rebuchet MS"/>
              </a:rPr>
              <a:t>Meios de Armazenamento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rebuchet MS"/>
              </a:rPr>
              <a:t>Tipos de Falha e sua Recuperação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rebuchet MS"/>
              </a:rPr>
              <a:t>LOG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rebuchet MS"/>
              </a:rPr>
              <a:t>Checkpoin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775f55"/>
                </a:solidFill>
                <a:latin typeface="Tw Cen MT"/>
              </a:rPr>
              <a:t>Tipos de Backup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Tw Cen MT"/>
              </a:rPr>
              <a:t>Complet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w Cen MT"/>
              </a:rPr>
              <a:t>Banco de Dado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w Cen MT"/>
              </a:rPr>
              <a:t>Realiza o backup de todo o banco de dado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w Cen MT"/>
              </a:rPr>
              <a:t>Arquivo de Log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w Cen MT"/>
              </a:rPr>
              <a:t>Realiza o backup apenas do Lo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Tw Cen MT"/>
              </a:rPr>
              <a:t>Diferencia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w Cen MT"/>
              </a:rPr>
              <a:t>Realiza o backup apenas da parte que foi modificada após o último backup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5345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775f55"/>
                </a:solidFill>
                <a:latin typeface="Tw Cen MT"/>
              </a:rPr>
              <a:t>Exercícios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152280" y="167652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just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w Cen MT"/>
              </a:rPr>
              <a:t>Discuta os tipos de falhas que podem ocorrer a um BD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w Cen MT"/>
              </a:rPr>
              <a:t>O que é checkpoint? Qual a importância de gravar um registro de checkpoint no Log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w Cen MT"/>
              </a:rPr>
              <a:t>Explique o procedimento que deve ser feito para restaurar o BD no caso de uma falha do sistema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1" name="Text Box 5"/>
          <p:cNvSpPr/>
          <p:nvPr/>
        </p:nvSpPr>
        <p:spPr>
          <a:xfrm>
            <a:off x="533520" y="3182760"/>
            <a:ext cx="1839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8534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775f55"/>
                </a:solidFill>
                <a:latin typeface="Tw Cen MT"/>
              </a:rPr>
              <a:t>Exercícios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152280" y="152388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just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w Cen MT"/>
              </a:rPr>
              <a:t>Responda: (1) O que acontece depois da falha com cada transação e por quê? (2) Qual o valor dos dados após o processo de recuperação?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4" name="Text Box 4"/>
          <p:cNvSpPr/>
          <p:nvPr/>
        </p:nvSpPr>
        <p:spPr>
          <a:xfrm>
            <a:off x="4856760" y="3124080"/>
            <a:ext cx="2344680" cy="36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[write, T3, B, 10, 8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[commit, T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[início, T4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[read, T4, A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[write, T2, D, 0, 25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[início, T5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[write, T4, A, 20, 15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[read, T5, A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[commit, T4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[write, T5, A, 15, 65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[read, T2, 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FALHA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5"/>
          <p:cNvSpPr/>
          <p:nvPr/>
        </p:nvSpPr>
        <p:spPr>
          <a:xfrm>
            <a:off x="533520" y="3182760"/>
            <a:ext cx="1839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6"/>
          <p:cNvSpPr/>
          <p:nvPr/>
        </p:nvSpPr>
        <p:spPr>
          <a:xfrm>
            <a:off x="1164240" y="2971800"/>
            <a:ext cx="2154240" cy="36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[início, T1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[read, T1, A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[read, T1, 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[início, T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[read, T2, C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[write, T1, A, 3, 20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[commit, T1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[write, T2, C, 2, 40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[início, T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[read, T3, 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[checkpoi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Freeform 9"/>
          <p:cNvSpPr/>
          <p:nvPr/>
        </p:nvSpPr>
        <p:spPr>
          <a:xfrm>
            <a:off x="2209680" y="2882880"/>
            <a:ext cx="3124440" cy="3822840"/>
          </a:xfrm>
          <a:custGeom>
            <a:avLst/>
            <a:gdLst>
              <a:gd name="textAreaLeft" fmla="*/ 0 w 3124440"/>
              <a:gd name="textAreaRight" fmla="*/ 3124800 w 3124440"/>
              <a:gd name="textAreaTop" fmla="*/ 0 h 3822840"/>
              <a:gd name="textAreaBottom" fmla="*/ 3823200 h 3822840"/>
            </a:gdLst>
            <a:ahLst/>
            <a:rect l="textAreaLeft" t="textAreaTop" r="textAreaRight" b="textAreaBottom"/>
            <a:pathLst>
              <a:path w="1776" h="2504">
                <a:moveTo>
                  <a:pt x="0" y="2440"/>
                </a:moveTo>
                <a:cubicBezTo>
                  <a:pt x="312" y="2472"/>
                  <a:pt x="624" y="2504"/>
                  <a:pt x="864" y="2152"/>
                </a:cubicBezTo>
                <a:cubicBezTo>
                  <a:pt x="1104" y="1800"/>
                  <a:pt x="1288" y="656"/>
                  <a:pt x="1440" y="328"/>
                </a:cubicBezTo>
                <a:cubicBezTo>
                  <a:pt x="1592" y="0"/>
                  <a:pt x="1684" y="92"/>
                  <a:pt x="1776" y="184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Propriedades de uma transação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558bb8"/>
                </a:solidFill>
                <a:latin typeface="Tw Cen MT"/>
              </a:rPr>
              <a:t>Atomicidade</a:t>
            </a:r>
            <a:r>
              <a:rPr b="0" lang="pt-BR" sz="2900" spc="-1" strike="noStrike">
                <a:solidFill>
                  <a:srgbClr val="000000"/>
                </a:solidFill>
                <a:latin typeface="Tw Cen MT"/>
              </a:rPr>
              <a:t>: Todas as ações na transação acontecem, ou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nenhuma acontec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558bb8"/>
                </a:solidFill>
                <a:latin typeface="Tw Cen MT"/>
              </a:rPr>
              <a:t>Consistência</a:t>
            </a:r>
            <a:r>
              <a:rPr b="0" lang="pt-BR" sz="2900" spc="-1" strike="noStrike">
                <a:solidFill>
                  <a:srgbClr val="000000"/>
                </a:solidFill>
                <a:latin typeface="Tw Cen MT"/>
              </a:rPr>
              <a:t>: Se toda a transação é consistente, e o BD inicia consistente, então o BD termina consistent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558bb8"/>
                </a:solidFill>
                <a:latin typeface="Tw Cen MT"/>
              </a:rPr>
              <a:t>Isolamento</a:t>
            </a:r>
            <a:r>
              <a:rPr b="0" lang="pt-BR" sz="2900" spc="-1" strike="noStrike">
                <a:solidFill>
                  <a:srgbClr val="000000"/>
                </a:solidFill>
                <a:latin typeface="Tw Cen MT"/>
              </a:rPr>
              <a:t>: A execução de uma transação é isolada de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utras transaçõe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558bb8"/>
                </a:solidFill>
                <a:latin typeface="Tw Cen MT"/>
              </a:rPr>
              <a:t>Durabilidade</a:t>
            </a:r>
            <a:r>
              <a:rPr b="0" lang="pt-BR" sz="2900" spc="-1" strike="noStrike">
                <a:solidFill>
                  <a:srgbClr val="000000"/>
                </a:solidFill>
                <a:latin typeface="Tw Cen MT"/>
              </a:rPr>
              <a:t>: Se uma transação é finalizada, seu efeito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ersist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775f55"/>
                </a:solidFill>
                <a:latin typeface="Tw Cen MT"/>
              </a:rPr>
              <a:t>Motivação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609480" y="1600200"/>
            <a:ext cx="83059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Tw Cen MT"/>
              </a:rPr>
              <a:t>Sistema de computador está sujeito a falha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w Cen MT"/>
              </a:rPr>
              <a:t>Existem diversos tipos de falhas, as quais podem acarretar perda dos dado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Tw Cen MT"/>
              </a:rPr>
              <a:t>O sistema deve garantir que as propriedades de </a:t>
            </a:r>
            <a:r>
              <a:rPr b="1" lang="pt-BR" sz="2900" spc="-1" strike="noStrike">
                <a:solidFill>
                  <a:srgbClr val="558bb8"/>
                </a:solidFill>
                <a:latin typeface="Tw Cen MT"/>
              </a:rPr>
              <a:t>atomicidade</a:t>
            </a:r>
            <a:r>
              <a:rPr b="0" lang="pt-BR" sz="2900" spc="-1" strike="noStrike">
                <a:solidFill>
                  <a:srgbClr val="000000"/>
                </a:solidFill>
                <a:latin typeface="Tw Cen MT"/>
              </a:rPr>
              <a:t> e </a:t>
            </a:r>
            <a:r>
              <a:rPr b="1" lang="pt-BR" sz="2900" spc="-1" strike="noStrike">
                <a:solidFill>
                  <a:srgbClr val="558bb8"/>
                </a:solidFill>
                <a:latin typeface="Tw Cen MT"/>
              </a:rPr>
              <a:t>durabilidade</a:t>
            </a:r>
            <a:r>
              <a:rPr b="0" lang="pt-BR" sz="2900" spc="-1" strike="noStrike">
                <a:solidFill>
                  <a:srgbClr val="000000"/>
                </a:solidFill>
                <a:latin typeface="Tw Cen MT"/>
              </a:rPr>
              <a:t> das transações sejam preservada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53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775f55"/>
                </a:solidFill>
                <a:latin typeface="Tw Cen MT"/>
              </a:rPr>
              <a:t>Motivação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8" name="AutoShape 6"/>
          <p:cNvSpPr/>
          <p:nvPr/>
        </p:nvSpPr>
        <p:spPr>
          <a:xfrm>
            <a:off x="411120" y="3352680"/>
            <a:ext cx="2865600" cy="192096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704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B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onsist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AutoShape 7"/>
          <p:cNvSpPr/>
          <p:nvPr/>
        </p:nvSpPr>
        <p:spPr>
          <a:xfrm>
            <a:off x="5867280" y="3733920"/>
            <a:ext cx="3048120" cy="1463400"/>
          </a:xfrm>
          <a:prstGeom prst="cloudCallout">
            <a:avLst>
              <a:gd name="adj1" fmla="val -13907"/>
              <a:gd name="adj2" fmla="val -112111"/>
            </a:avLst>
          </a:prstGeom>
          <a:solidFill>
            <a:srgbClr val="ffffff"/>
          </a:solidFill>
          <a:ln w="9360">
            <a:solidFill>
              <a:srgbClr val="704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BD Inconsist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Line 8"/>
          <p:cNvSpPr/>
          <p:nvPr/>
        </p:nvSpPr>
        <p:spPr>
          <a:xfrm>
            <a:off x="990720" y="2209680"/>
            <a:ext cx="650880" cy="117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9"/>
          <p:cNvSpPr/>
          <p:nvPr/>
        </p:nvSpPr>
        <p:spPr>
          <a:xfrm>
            <a:off x="1676520" y="2057400"/>
            <a:ext cx="0" cy="12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Line 10"/>
          <p:cNvSpPr/>
          <p:nvPr/>
        </p:nvSpPr>
        <p:spPr>
          <a:xfrm flipH="1">
            <a:off x="1752480" y="2057400"/>
            <a:ext cx="1301760" cy="12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11"/>
          <p:cNvSpPr/>
          <p:nvPr/>
        </p:nvSpPr>
        <p:spPr>
          <a:xfrm rot="18958200">
            <a:off x="1283400" y="2252160"/>
            <a:ext cx="202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Transaçõ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Line 12"/>
          <p:cNvSpPr/>
          <p:nvPr/>
        </p:nvSpPr>
        <p:spPr>
          <a:xfrm>
            <a:off x="3352680" y="4191120"/>
            <a:ext cx="26672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13"/>
          <p:cNvSpPr/>
          <p:nvPr/>
        </p:nvSpPr>
        <p:spPr>
          <a:xfrm>
            <a:off x="3002040" y="3524400"/>
            <a:ext cx="15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Tahoma"/>
              </a:rPr>
              <a:t>Fal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14"/>
          <p:cNvSpPr/>
          <p:nvPr/>
        </p:nvSpPr>
        <p:spPr>
          <a:xfrm flipH="1" flipV="1">
            <a:off x="3428640" y="5105520"/>
            <a:ext cx="2971800" cy="1584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15"/>
          <p:cNvSpPr/>
          <p:nvPr/>
        </p:nvSpPr>
        <p:spPr>
          <a:xfrm>
            <a:off x="3505320" y="5334120"/>
            <a:ext cx="32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600"/>
                </a:solidFill>
                <a:latin typeface="Tahoma"/>
              </a:rPr>
              <a:t>Técnicas de Recuper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775f55"/>
                </a:solidFill>
                <a:latin typeface="Tw Cen MT"/>
              </a:rPr>
              <a:t>Conceitos Básico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w Cen MT"/>
              </a:rPr>
              <a:t>Transação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w Cen MT"/>
              </a:rPr>
              <a:t>Unidade de trabalho; Unidade de recuperação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w Cen MT"/>
              </a:rPr>
              <a:t>As propriedades devem ser preservada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w Cen MT"/>
              </a:rPr>
              <a:t>Recuperação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w Cen MT"/>
              </a:rPr>
              <a:t>O SGBD é acionado automaticamente para resolver os tipos de falhas esperado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w Cen MT"/>
              </a:rPr>
              <a:t>Condição básic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w Cen MT"/>
              </a:rPr>
              <a:t>Armazenamento de informação redundante durante o funcionamento normal (log, backup)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w Cen MT"/>
              </a:rPr>
              <a:t>Estado do BD deve ser recuperado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w Cen MT"/>
              </a:rPr>
              <a:t>Ao mais recente estado consistente antes da falha (satisfaz todas as restrições de integridade)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305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775f55"/>
                </a:solidFill>
                <a:latin typeface="Tw Cen MT"/>
              </a:rPr>
              <a:t>Observe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52280" y="1752480"/>
            <a:ext cx="8763120" cy="43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12480" indent="-312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w Cen MT"/>
              </a:rPr>
              <a:t>O planejamento e o processo de Back Up geralmente envolve a seguinte questão: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w Cen MT"/>
              </a:rPr>
              <a:t>Isto porque é preciso conhecer o funcionamento do gerenciador de recuperação, determinar a frequência com que será feito o Backup e onde ele ficará armazenado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w Cen MT"/>
              </a:rPr>
              <a:t>No pior caso, se o backup estiver guardado próximo a máquina com os dados e a sala que eles estiverem pegar fogo...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AutoShape 6"/>
          <p:cNvSpPr/>
          <p:nvPr/>
        </p:nvSpPr>
        <p:spPr>
          <a:xfrm>
            <a:off x="990720" y="2743200"/>
            <a:ext cx="693396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9"/>
                </a:solidFill>
                <a:latin typeface="Comic Sans MS"/>
              </a:rPr>
              <a:t>Quanto você está disposto a perd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5341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775f55"/>
                </a:solidFill>
                <a:latin typeface="Tw Cen MT"/>
              </a:rPr>
              <a:t>Meios de Armazenamento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533160" y="16002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w Cen MT"/>
              </a:rPr>
              <a:t>Voláti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w Cen MT"/>
              </a:rPr>
              <a:t>Buffer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w Cen MT"/>
              </a:rPr>
              <a:t>Os dados estão armazenados na memória principal do computador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w Cen MT"/>
              </a:rPr>
              <a:t>Acesso mais rápido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w Cen MT"/>
              </a:rPr>
              <a:t>A informação residente neste meio usualmente, não sobrevive a quedas no sistem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w Cen MT"/>
              </a:rPr>
              <a:t>Não-voláti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w Cen MT"/>
              </a:rPr>
              <a:t>Os dados estão armazenados em discos e/ou fita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w Cen MT"/>
              </a:rPr>
              <a:t>A informação residente neste meio sobrevive a quedas no sistema mas pode não sobreviver a falhas neste meio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w Cen MT"/>
              </a:rPr>
              <a:t>Estáve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w Cen MT"/>
              </a:rPr>
              <a:t>A informação residente neste meio “nunca” é perdid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w Cen MT"/>
              </a:rPr>
              <a:t>Meio mais seguro do que a não-voláti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775f55"/>
                </a:solidFill>
                <a:latin typeface="Tw Cen MT"/>
              </a:rPr>
              <a:t>Tipos Falhas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09480" y="15235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w Cen MT"/>
              </a:rPr>
              <a:t>Falha de transação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558bb8"/>
                </a:solidFill>
                <a:latin typeface="Tw Cen MT"/>
              </a:rPr>
              <a:t>Erro lógico</a:t>
            </a:r>
            <a:r>
              <a:rPr b="0" lang="pt-BR" sz="2200" spc="-1" strike="noStrike">
                <a:solidFill>
                  <a:srgbClr val="000000"/>
                </a:solidFill>
                <a:latin typeface="Tw Cen MT"/>
              </a:rPr>
              <a:t>. A transação não pode continuar sua execução normal devido a alguma condição não satisfeita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558bb8"/>
                </a:solidFill>
                <a:latin typeface="Tw Cen MT"/>
              </a:rPr>
              <a:t>Erro de sistema</a:t>
            </a:r>
            <a:r>
              <a:rPr b="0" lang="pt-BR" sz="2200" spc="-1" strike="noStrike">
                <a:solidFill>
                  <a:srgbClr val="000000"/>
                </a:solidFill>
                <a:latin typeface="Tw Cen MT"/>
              </a:rPr>
              <a:t>. O sistema entrou em um estado inadequado (deadlock)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w Cen MT"/>
              </a:rPr>
              <a:t>Falha do sistem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558bb8"/>
                </a:solidFill>
                <a:latin typeface="Tw Cen MT"/>
              </a:rPr>
              <a:t>Queda de energia</a:t>
            </a:r>
            <a:r>
              <a:rPr b="0" lang="pt-BR" sz="2200" spc="-1" strike="noStrike">
                <a:solidFill>
                  <a:srgbClr val="000000"/>
                </a:solidFill>
                <a:latin typeface="Tw Cen MT"/>
              </a:rPr>
              <a:t>. Não danifica fisicamente o BD, mas as informações em memória volátil são perdidas. Afeta todas as transações em curso no momento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w Cen MT"/>
              </a:rPr>
              <a:t>Falha de Mídi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w Cen MT"/>
              </a:rPr>
              <a:t>Bloco de disco perdeu conteúdo em função da </a:t>
            </a:r>
            <a:r>
              <a:rPr b="1" lang="pt-BR" sz="2200" spc="-1" strike="noStrike">
                <a:solidFill>
                  <a:srgbClr val="558bb8"/>
                </a:solidFill>
                <a:latin typeface="Tw Cen MT"/>
              </a:rPr>
              <a:t>quebra do cabeçote </a:t>
            </a:r>
            <a:r>
              <a:rPr b="0" lang="pt-BR" sz="2200" spc="-1" strike="noStrike">
                <a:solidFill>
                  <a:srgbClr val="000000"/>
                </a:solidFill>
                <a:latin typeface="Tw Cen MT"/>
              </a:rPr>
              <a:t>ou </a:t>
            </a:r>
            <a:r>
              <a:rPr b="1" lang="pt-BR" sz="2200" spc="-1" strike="noStrike">
                <a:solidFill>
                  <a:srgbClr val="558bb8"/>
                </a:solidFill>
                <a:latin typeface="Tw Cen MT"/>
              </a:rPr>
              <a:t>falha durante a transferência de dados</a:t>
            </a:r>
            <a:r>
              <a:rPr b="0" lang="pt-BR" sz="2200" spc="-1" strike="noStrike">
                <a:solidFill>
                  <a:srgbClr val="000000"/>
                </a:solidFill>
                <a:latin typeface="Tw Cen MT"/>
              </a:rPr>
              <a:t>. Danifica fisicamente o BD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5T19:03:28Z</dcterms:created>
  <dc:creator>renata</dc:creator>
  <dc:description/>
  <dc:language>en-US</dc:language>
  <cp:lastModifiedBy>lilian</cp:lastModifiedBy>
  <dcterms:modified xsi:type="dcterms:W3CDTF">2012-05-01T22:16:02Z</dcterms:modified>
  <cp:revision>132</cp:revision>
  <dc:subject/>
  <dc:title>Banco de Dados II</dc:title>
</cp:coreProperties>
</file>